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gif" ContentType="image/gif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5C7D-D05B-400E-ADBD-4C1C8A6AE129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Practical demons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Hold slinky still at one end, send pulse from other 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Send pulses from both ends in ph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Send pulses from both ends out of ph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Send pulse from heavy to light string and vice ver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6185-10FB-42AD-9A0A-2B070C3C3E1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FD10-E8E7-4EB1-B4BE-F8540E0AB7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980C-0A1B-428A-A1D6-B449AC3E4A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E9EF-2DAC-4975-818C-6266DFD615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4562-6D7A-4DFE-9507-92BFF998B1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2DAB-0684-4465-BA95-13F8A49CD5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821D-7D88-4822-85D2-3563298520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415F-E4DE-477E-8197-1DC4B966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FC8-3E80-4F0A-90EE-119C5572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7025-0257-4D94-9C33-F0EC7D0D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3A6-0601-4F1F-BC51-58594BB8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22A9-F456-4B50-9076-4633EA98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396-7468-4D55-8E87-763373D4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52C7-80CF-404E-942F-8EE8B271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A84C-9B9F-4A67-A581-81B10AFC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8E1-7556-4F24-A269-73752ECF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783-FA36-4085-93EB-6678B846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B349-26C1-42F9-99F9-DAAF31AD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243A-0DBD-4822-BA72-493E480F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6758-FF46-4EAE-A13E-6C3BB4BDE055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898989"/>
                </a:solidFill>
                <a:latin typeface="Calibri"/>
              </a:rPr>
              <a:t>To review reflection of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898989"/>
                </a:solidFill>
                <a:latin typeface="Calibri"/>
              </a:rPr>
              <a:t>To use a ray box saf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898989"/>
                </a:solidFill>
                <a:latin typeface="Calibri"/>
              </a:rPr>
              <a:t>To compare regular and irregular ref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898989"/>
                </a:solidFill>
                <a:latin typeface="Calibri"/>
              </a:rPr>
              <a:t>To recall colour in terms of ref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230F-9D27-4536-AFD6-3997F9BCED5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Curved Refl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27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Concave reflectors – make the wav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alibri"/>
              </a:rPr>
              <a:t>converge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(meet at a poi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5079960" y="1835280"/>
            <a:ext cx="3452760" cy="3311280"/>
            <a:chOff x="5079960" y="1835280"/>
            <a:chExt cx="3452760" cy="3311280"/>
          </a:xfrm>
        </p:grpSpPr>
        <p:sp>
          <p:nvSpPr>
            <p:cNvPr id="103" name="Rectangle 5"/>
            <p:cNvSpPr/>
            <p:nvPr/>
          </p:nvSpPr>
          <p:spPr>
            <a:xfrm>
              <a:off x="5079960" y="1835280"/>
              <a:ext cx="3452760" cy="33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6"/>
            <p:cNvGrpSpPr/>
            <p:nvPr/>
          </p:nvGrpSpPr>
          <p:grpSpPr>
            <a:xfrm>
              <a:off x="5493960" y="1940040"/>
              <a:ext cx="2692440" cy="2980800"/>
              <a:chOff x="5493960" y="1940040"/>
              <a:chExt cx="2692440" cy="2980800"/>
            </a:xfrm>
          </p:grpSpPr>
          <p:grpSp>
            <p:nvGrpSpPr>
              <p:cNvPr id="105" name="Group 7"/>
              <p:cNvGrpSpPr/>
              <p:nvPr/>
            </p:nvGrpSpPr>
            <p:grpSpPr>
              <a:xfrm>
                <a:off x="5578560" y="1940040"/>
                <a:ext cx="2607840" cy="2976120"/>
                <a:chOff x="5578560" y="1940040"/>
                <a:chExt cx="2607840" cy="2976120"/>
              </a:xfrm>
            </p:grpSpPr>
            <p:sp>
              <p:nvSpPr>
                <p:cNvPr id="106" name="Oval 8"/>
                <p:cNvSpPr/>
                <p:nvPr/>
              </p:nvSpPr>
              <p:spPr>
                <a:xfrm flipH="1">
                  <a:off x="5600160" y="2340720"/>
                  <a:ext cx="2585880" cy="2193480"/>
                </a:xfrm>
                <a:prstGeom prst="ellipse">
                  <a:avLst/>
                </a:prstGeom>
                <a:solidFill>
                  <a:srgbClr val="ffffff">
                    <a:alpha val="85000"/>
                  </a:srgbClr>
                </a:solidFill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9"/>
                <p:cNvSpPr/>
                <p:nvPr/>
              </p:nvSpPr>
              <p:spPr>
                <a:xfrm flipH="1">
                  <a:off x="5578200" y="1940040"/>
                  <a:ext cx="1596600" cy="2976120"/>
                </a:xfrm>
                <a:prstGeom prst="rect">
                  <a:avLst/>
                </a:prstGeom>
                <a:solidFill>
                  <a:srgbClr val="ffffff">
                    <a:alpha val="8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Oval 10"/>
              <p:cNvSpPr/>
              <p:nvPr/>
            </p:nvSpPr>
            <p:spPr>
              <a:xfrm>
                <a:off x="6190200" y="2791080"/>
                <a:ext cx="1538640" cy="1304640"/>
              </a:xfrm>
              <a:prstGeom prst="ellipse">
                <a:avLst/>
              </a:prstGeom>
              <a:solidFill>
                <a:srgbClr val="ffffff">
                  <a:alpha val="85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11"/>
              <p:cNvSpPr/>
              <p:nvPr/>
            </p:nvSpPr>
            <p:spPr>
              <a:xfrm>
                <a:off x="6621120" y="3156840"/>
                <a:ext cx="693360" cy="588240"/>
              </a:xfrm>
              <a:prstGeom prst="ellipse">
                <a:avLst/>
              </a:prstGeom>
              <a:solidFill>
                <a:srgbClr val="ffffff">
                  <a:alpha val="76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5493960" y="2251800"/>
                <a:ext cx="1481040" cy="252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6636600" y="1963800"/>
                <a:ext cx="506880" cy="715320"/>
              </a:xfrm>
              <a:prstGeom prst="rect">
                <a:avLst/>
              </a:prstGeom>
              <a:solidFill>
                <a:srgbClr val="ffffff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6597360" y="4174560"/>
                <a:ext cx="562680" cy="746280"/>
              </a:xfrm>
              <a:prstGeom prst="rect">
                <a:avLst/>
              </a:prstGeom>
              <a:solidFill>
                <a:srgbClr val="ffffff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5"/>
              <p:cNvSpPr/>
              <p:nvPr/>
            </p:nvSpPr>
            <p:spPr>
              <a:xfrm>
                <a:off x="7517160" y="2493720"/>
                <a:ext cx="0" cy="18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6"/>
              <p:cNvSpPr/>
              <p:nvPr/>
            </p:nvSpPr>
            <p:spPr>
              <a:xfrm>
                <a:off x="7063560" y="2487600"/>
                <a:ext cx="0" cy="186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7"/>
              <p:cNvSpPr/>
              <p:nvPr/>
            </p:nvSpPr>
            <p:spPr>
              <a:xfrm>
                <a:off x="6612840" y="2505600"/>
                <a:ext cx="0" cy="18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>
                <a:off x="6159240" y="2519640"/>
                <a:ext cx="0" cy="18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9"/>
              <p:cNvSpPr/>
              <p:nvPr/>
            </p:nvSpPr>
            <p:spPr>
              <a:xfrm>
                <a:off x="5507640" y="2968560"/>
                <a:ext cx="251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20"/>
              <p:cNvSpPr/>
              <p:nvPr/>
            </p:nvSpPr>
            <p:spPr>
              <a:xfrm>
                <a:off x="5563800" y="3953160"/>
                <a:ext cx="241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21"/>
              <p:cNvSpPr/>
              <p:nvPr/>
            </p:nvSpPr>
            <p:spPr>
              <a:xfrm>
                <a:off x="7894800" y="2822040"/>
                <a:ext cx="0" cy="125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22"/>
              <p:cNvSpPr/>
              <p:nvPr/>
            </p:nvSpPr>
            <p:spPr>
              <a:xfrm flipH="1">
                <a:off x="6447960" y="2950560"/>
                <a:ext cx="1576440" cy="76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23"/>
              <p:cNvSpPr/>
              <p:nvPr/>
            </p:nvSpPr>
            <p:spPr>
              <a:xfrm flipH="1" flipV="1">
                <a:off x="6410160" y="3062880"/>
                <a:ext cx="1583640" cy="90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Rectangle 24"/>
          <p:cNvSpPr/>
          <p:nvPr/>
        </p:nvSpPr>
        <p:spPr>
          <a:xfrm>
            <a:off x="857160" y="3071880"/>
            <a:ext cx="1800360" cy="43164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D102-B1F8-41C6-A531-3059DCCD50E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Curved Refl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4253040" y="2233440"/>
            <a:ext cx="3894120" cy="3049920"/>
            <a:chOff x="4253040" y="2233440"/>
            <a:chExt cx="3894120" cy="3049920"/>
          </a:xfrm>
        </p:grpSpPr>
        <p:sp>
          <p:nvSpPr>
            <p:cNvPr id="126" name="Rectangle 4"/>
            <p:cNvSpPr/>
            <p:nvPr/>
          </p:nvSpPr>
          <p:spPr>
            <a:xfrm>
              <a:off x="4253040" y="2233440"/>
              <a:ext cx="3894120" cy="304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5"/>
            <p:cNvGrpSpPr/>
            <p:nvPr/>
          </p:nvGrpSpPr>
          <p:grpSpPr>
            <a:xfrm>
              <a:off x="5862960" y="2475000"/>
              <a:ext cx="2237400" cy="2401920"/>
              <a:chOff x="5862960" y="2475000"/>
              <a:chExt cx="2237400" cy="2401920"/>
            </a:xfrm>
          </p:grpSpPr>
          <p:sp>
            <p:nvSpPr>
              <p:cNvPr id="128" name="Oval 6"/>
              <p:cNvSpPr/>
              <p:nvPr/>
            </p:nvSpPr>
            <p:spPr>
              <a:xfrm>
                <a:off x="5862960" y="2603520"/>
                <a:ext cx="2208240" cy="2140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7"/>
              <p:cNvSpPr/>
              <p:nvPr/>
            </p:nvSpPr>
            <p:spPr>
              <a:xfrm>
                <a:off x="6725880" y="2475000"/>
                <a:ext cx="1374480" cy="240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8"/>
            <p:cNvGrpSpPr/>
            <p:nvPr/>
          </p:nvGrpSpPr>
          <p:grpSpPr>
            <a:xfrm>
              <a:off x="6120000" y="2493720"/>
              <a:ext cx="1778040" cy="2350440"/>
              <a:chOff x="6120000" y="2493720"/>
              <a:chExt cx="1778040" cy="2350440"/>
            </a:xfrm>
          </p:grpSpPr>
          <p:sp>
            <p:nvSpPr>
              <p:cNvPr id="131" name="Oval 9"/>
              <p:cNvSpPr/>
              <p:nvPr/>
            </p:nvSpPr>
            <p:spPr>
              <a:xfrm>
                <a:off x="6120000" y="2810160"/>
                <a:ext cx="1762920" cy="1732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10"/>
              <p:cNvSpPr/>
              <p:nvPr/>
            </p:nvSpPr>
            <p:spPr>
              <a:xfrm>
                <a:off x="6809400" y="2493720"/>
                <a:ext cx="1088640" cy="235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11"/>
            <p:cNvGrpSpPr/>
            <p:nvPr/>
          </p:nvGrpSpPr>
          <p:grpSpPr>
            <a:xfrm>
              <a:off x="6373080" y="2860560"/>
              <a:ext cx="1297800" cy="1698480"/>
              <a:chOff x="6373080" y="2860560"/>
              <a:chExt cx="1297800" cy="1698480"/>
            </a:xfrm>
          </p:grpSpPr>
          <p:sp>
            <p:nvSpPr>
              <p:cNvPr id="134" name="Oval 12"/>
              <p:cNvSpPr/>
              <p:nvPr/>
            </p:nvSpPr>
            <p:spPr>
              <a:xfrm>
                <a:off x="6373080" y="3089160"/>
                <a:ext cx="1286640" cy="1251720"/>
              </a:xfrm>
              <a:prstGeom prst="ellipse">
                <a:avLst/>
              </a:prstGeom>
              <a:solidFill>
                <a:srgbClr val="ffffff">
                  <a:alpha val="85000"/>
                </a:srgbClr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3"/>
              <p:cNvSpPr/>
              <p:nvPr/>
            </p:nvSpPr>
            <p:spPr>
              <a:xfrm>
                <a:off x="6876360" y="2860560"/>
                <a:ext cx="794520" cy="1698480"/>
              </a:xfrm>
              <a:prstGeom prst="rect">
                <a:avLst/>
              </a:prstGeom>
              <a:solidFill>
                <a:srgbClr val="ffffff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14"/>
            <p:cNvSpPr/>
            <p:nvPr/>
          </p:nvSpPr>
          <p:spPr>
            <a:xfrm>
              <a:off x="6893280" y="2941560"/>
              <a:ext cx="883800" cy="162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5"/>
            <p:cNvSpPr/>
            <p:nvPr/>
          </p:nvSpPr>
          <p:spPr>
            <a:xfrm>
              <a:off x="6345000" y="3095280"/>
              <a:ext cx="0" cy="12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6"/>
            <p:cNvSpPr/>
            <p:nvPr/>
          </p:nvSpPr>
          <p:spPr>
            <a:xfrm>
              <a:off x="6074280" y="3091680"/>
              <a:ext cx="0" cy="12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7"/>
            <p:cNvSpPr/>
            <p:nvPr/>
          </p:nvSpPr>
          <p:spPr>
            <a:xfrm>
              <a:off x="5805000" y="3103560"/>
              <a:ext cx="0" cy="12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5534640" y="3113280"/>
              <a:ext cx="0" cy="12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5146560" y="3420360"/>
              <a:ext cx="134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 flipH="1" flipV="1">
              <a:off x="5886000" y="2832840"/>
              <a:ext cx="570240" cy="55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1"/>
            <p:cNvSpPr/>
            <p:nvPr/>
          </p:nvSpPr>
          <p:spPr>
            <a:xfrm>
              <a:off x="5179680" y="4094640"/>
              <a:ext cx="134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2"/>
            <p:cNvSpPr/>
            <p:nvPr/>
          </p:nvSpPr>
          <p:spPr>
            <a:xfrm flipH="1">
              <a:off x="5941080" y="4095720"/>
              <a:ext cx="582480" cy="56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7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Convex Reflectors – make the waves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alibri"/>
              </a:rPr>
              <a:t>diverge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(spread ou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4"/>
          <p:cNvSpPr/>
          <p:nvPr/>
        </p:nvSpPr>
        <p:spPr>
          <a:xfrm>
            <a:off x="642960" y="3500280"/>
            <a:ext cx="1800360" cy="4320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Reflection of a pulse</a:t>
            </a:r>
            <a:br>
              <a:rPr sz="4400"/>
            </a:b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(animat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4B19-21B4-4639-BCE5-72D7CD516CC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http://www.glenbrook.k12.il.us/GBSSCI/PHYS/MMEDIA/waves/fix.gif"/>
          <p:cNvPicPr/>
          <p:nvPr/>
        </p:nvPicPr>
        <p:blipFill>
          <a:blip r:embed="rId1"/>
          <a:stretch/>
        </p:blipFill>
        <p:spPr>
          <a:xfrm>
            <a:off x="3348000" y="3328920"/>
            <a:ext cx="24480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B62D-7D0F-4BC5-BE4C-9E7CE065F37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flection &amp; Transmission of Pul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79400" y="124416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n a pulse moves from one medium into another, some of the pulse is reflected and some is transmit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1398600" y="2801880"/>
            <a:ext cx="6502320" cy="1573200"/>
            <a:chOff x="1398600" y="2801880"/>
            <a:chExt cx="6502320" cy="1573200"/>
          </a:xfrm>
        </p:grpSpPr>
        <p:sp>
          <p:nvSpPr>
            <p:cNvPr id="154" name="Rectangle 5"/>
            <p:cNvSpPr/>
            <p:nvPr/>
          </p:nvSpPr>
          <p:spPr>
            <a:xfrm>
              <a:off x="1398600" y="2801880"/>
              <a:ext cx="6502320" cy="157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6"/>
            <p:cNvGrpSpPr/>
            <p:nvPr/>
          </p:nvGrpSpPr>
          <p:grpSpPr>
            <a:xfrm>
              <a:off x="1474200" y="2844720"/>
              <a:ext cx="6342120" cy="1472400"/>
              <a:chOff x="1474200" y="2844720"/>
              <a:chExt cx="6342120" cy="1472400"/>
            </a:xfrm>
          </p:grpSpPr>
          <p:grpSp>
            <p:nvGrpSpPr>
              <p:cNvPr id="156" name="Group 7"/>
              <p:cNvGrpSpPr/>
              <p:nvPr/>
            </p:nvGrpSpPr>
            <p:grpSpPr>
              <a:xfrm>
                <a:off x="1474200" y="3173040"/>
                <a:ext cx="6342120" cy="1144080"/>
                <a:chOff x="1474200" y="3173040"/>
                <a:chExt cx="6342120" cy="1144080"/>
              </a:xfrm>
            </p:grpSpPr>
            <p:grpSp>
              <p:nvGrpSpPr>
                <p:cNvPr id="157" name="Group 8"/>
                <p:cNvGrpSpPr/>
                <p:nvPr/>
              </p:nvGrpSpPr>
              <p:grpSpPr>
                <a:xfrm>
                  <a:off x="1575720" y="3173040"/>
                  <a:ext cx="6240600" cy="636840"/>
                  <a:chOff x="1575720" y="3173040"/>
                  <a:chExt cx="6240600" cy="636840"/>
                </a:xfrm>
              </p:grpSpPr>
              <p:sp>
                <p:nvSpPr>
                  <p:cNvPr id="158" name="Freeform 9"/>
                  <p:cNvSpPr/>
                  <p:nvPr/>
                </p:nvSpPr>
                <p:spPr>
                  <a:xfrm>
                    <a:off x="1821960" y="3173040"/>
                    <a:ext cx="1871640" cy="6267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Rectangle 10"/>
                  <p:cNvSpPr/>
                  <p:nvPr/>
                </p:nvSpPr>
                <p:spPr>
                  <a:xfrm>
                    <a:off x="2737080" y="3502440"/>
                    <a:ext cx="1526760" cy="30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11"/>
                  <p:cNvGrpSpPr/>
                  <p:nvPr/>
                </p:nvGrpSpPr>
                <p:grpSpPr>
                  <a:xfrm>
                    <a:off x="1575720" y="3259080"/>
                    <a:ext cx="6240600" cy="228600"/>
                    <a:chOff x="1575720" y="3259080"/>
                    <a:chExt cx="6240600" cy="228600"/>
                  </a:xfrm>
                </p:grpSpPr>
                <p:sp>
                  <p:nvSpPr>
                    <p:cNvPr id="161" name="Line 12"/>
                    <p:cNvSpPr/>
                    <p:nvPr/>
                  </p:nvSpPr>
                  <p:spPr>
                    <a:xfrm>
                      <a:off x="1821960" y="3486960"/>
                      <a:ext cx="5994360" cy="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Line 13"/>
                    <p:cNvSpPr/>
                    <p:nvPr/>
                  </p:nvSpPr>
                  <p:spPr>
                    <a:xfrm>
                      <a:off x="2772000" y="3487680"/>
                      <a:ext cx="139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Line 14"/>
                    <p:cNvSpPr/>
                    <p:nvPr/>
                  </p:nvSpPr>
                  <p:spPr>
                    <a:xfrm>
                      <a:off x="4197240" y="3487680"/>
                      <a:ext cx="3155760" cy="0"/>
                    </a:xfrm>
                    <a:prstGeom prst="line">
                      <a:avLst/>
                    </a:prstGeom>
                    <a:ln w="41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15"/>
                    <p:cNvSpPr/>
                    <p:nvPr/>
                  </p:nvSpPr>
                  <p:spPr>
                    <a:xfrm>
                      <a:off x="2581200" y="3259080"/>
                      <a:ext cx="9414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16"/>
                    <p:cNvSpPr/>
                    <p:nvPr/>
                  </p:nvSpPr>
                  <p:spPr>
                    <a:xfrm flipH="1">
                      <a:off x="1575720" y="3480480"/>
                      <a:ext cx="241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6" name="Group 17"/>
                <p:cNvGrpSpPr/>
                <p:nvPr/>
              </p:nvGrpSpPr>
              <p:grpSpPr>
                <a:xfrm>
                  <a:off x="1474200" y="3709800"/>
                  <a:ext cx="6176880" cy="607320"/>
                  <a:chOff x="1474200" y="3709800"/>
                  <a:chExt cx="6176880" cy="607320"/>
                </a:xfrm>
              </p:grpSpPr>
              <p:sp>
                <p:nvSpPr>
                  <p:cNvPr id="167" name="Freeform 18"/>
                  <p:cNvSpPr/>
                  <p:nvPr/>
                </p:nvSpPr>
                <p:spPr>
                  <a:xfrm>
                    <a:off x="1694880" y="3830400"/>
                    <a:ext cx="1871280" cy="376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Rectangle 19"/>
                  <p:cNvSpPr/>
                  <p:nvPr/>
                </p:nvSpPr>
                <p:spPr>
                  <a:xfrm>
                    <a:off x="1668600" y="3709800"/>
                    <a:ext cx="1526760" cy="30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Line 20"/>
                  <p:cNvSpPr/>
                  <p:nvPr/>
                </p:nvSpPr>
                <p:spPr>
                  <a:xfrm>
                    <a:off x="1656720" y="4023720"/>
                    <a:ext cx="5994360" cy="0"/>
                  </a:xfrm>
                  <a:prstGeom prst="line">
                    <a:avLst/>
                  </a:prstGeom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21"/>
                  <p:cNvSpPr/>
                  <p:nvPr/>
                </p:nvSpPr>
                <p:spPr>
                  <a:xfrm>
                    <a:off x="5215680" y="4024080"/>
                    <a:ext cx="1972080" cy="0"/>
                  </a:xfrm>
                  <a:prstGeom prst="line">
                    <a:avLst/>
                  </a:prstGeom>
                  <a:ln w="41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22"/>
                  <p:cNvSpPr/>
                  <p:nvPr/>
                </p:nvSpPr>
                <p:spPr>
                  <a:xfrm flipH="1">
                    <a:off x="1753920" y="4167360"/>
                    <a:ext cx="941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23"/>
                  <p:cNvSpPr/>
                  <p:nvPr/>
                </p:nvSpPr>
                <p:spPr>
                  <a:xfrm flipH="1">
                    <a:off x="1474200" y="4024080"/>
                    <a:ext cx="1145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24"/>
                  <p:cNvSpPr/>
                  <p:nvPr/>
                </p:nvSpPr>
                <p:spPr>
                  <a:xfrm>
                    <a:off x="3523320" y="4024080"/>
                    <a:ext cx="508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25"/>
                  <p:cNvSpPr/>
                  <p:nvPr/>
                </p:nvSpPr>
                <p:spPr>
                  <a:xfrm>
                    <a:off x="4329000" y="3837600"/>
                    <a:ext cx="1871280" cy="37656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Rectangle 26"/>
                  <p:cNvSpPr/>
                  <p:nvPr/>
                </p:nvSpPr>
                <p:spPr>
                  <a:xfrm>
                    <a:off x="5126400" y="4045680"/>
                    <a:ext cx="1259640" cy="271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Line 27"/>
                  <p:cNvSpPr/>
                  <p:nvPr/>
                </p:nvSpPr>
                <p:spPr>
                  <a:xfrm flipV="1">
                    <a:off x="3994200" y="4016880"/>
                    <a:ext cx="330480" cy="6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8"/>
                  <p:cNvSpPr/>
                  <p:nvPr/>
                </p:nvSpPr>
                <p:spPr>
                  <a:xfrm>
                    <a:off x="5139000" y="3888360"/>
                    <a:ext cx="76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8" name="Text Box 29"/>
              <p:cNvSpPr/>
              <p:nvPr/>
            </p:nvSpPr>
            <p:spPr>
              <a:xfrm>
                <a:off x="2594160" y="2844720"/>
                <a:ext cx="393192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600" spc="-1" strike="noStrike">
                    <a:solidFill>
                      <a:srgbClr val="000000"/>
                    </a:solidFill>
                    <a:latin typeface="Times New Roman"/>
                  </a:rPr>
                  <a:t>Light to Heavy Str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Group 30"/>
          <p:cNvGrpSpPr/>
          <p:nvPr/>
        </p:nvGrpSpPr>
        <p:grpSpPr>
          <a:xfrm>
            <a:off x="1424160" y="4540320"/>
            <a:ext cx="6502320" cy="1512720"/>
            <a:chOff x="1424160" y="4540320"/>
            <a:chExt cx="6502320" cy="1512720"/>
          </a:xfrm>
        </p:grpSpPr>
        <p:sp>
          <p:nvSpPr>
            <p:cNvPr id="180" name="Rectangle 31"/>
            <p:cNvSpPr/>
            <p:nvPr/>
          </p:nvSpPr>
          <p:spPr>
            <a:xfrm>
              <a:off x="1424160" y="4540320"/>
              <a:ext cx="6502320" cy="15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32"/>
            <p:cNvGrpSpPr/>
            <p:nvPr/>
          </p:nvGrpSpPr>
          <p:grpSpPr>
            <a:xfrm>
              <a:off x="1499760" y="4583160"/>
              <a:ext cx="6317280" cy="1426320"/>
              <a:chOff x="1499760" y="4583160"/>
              <a:chExt cx="6317280" cy="1426320"/>
            </a:xfrm>
          </p:grpSpPr>
          <p:grpSp>
            <p:nvGrpSpPr>
              <p:cNvPr id="182" name="Group 33"/>
              <p:cNvGrpSpPr/>
              <p:nvPr/>
            </p:nvGrpSpPr>
            <p:grpSpPr>
              <a:xfrm>
                <a:off x="1499760" y="4833360"/>
                <a:ext cx="6317280" cy="1176120"/>
                <a:chOff x="1499760" y="4833360"/>
                <a:chExt cx="6317280" cy="1176120"/>
              </a:xfrm>
            </p:grpSpPr>
            <p:grpSp>
              <p:nvGrpSpPr>
                <p:cNvPr id="183" name="Group 34"/>
                <p:cNvGrpSpPr/>
                <p:nvPr/>
              </p:nvGrpSpPr>
              <p:grpSpPr>
                <a:xfrm>
                  <a:off x="1572840" y="4833360"/>
                  <a:ext cx="6244200" cy="652680"/>
                  <a:chOff x="1572840" y="4833360"/>
                  <a:chExt cx="6244200" cy="652680"/>
                </a:xfrm>
              </p:grpSpPr>
              <p:sp>
                <p:nvSpPr>
                  <p:cNvPr id="184" name="Freeform 35"/>
                  <p:cNvSpPr/>
                  <p:nvPr/>
                </p:nvSpPr>
                <p:spPr>
                  <a:xfrm>
                    <a:off x="1822320" y="4833360"/>
                    <a:ext cx="1871640" cy="62856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36"/>
                  <p:cNvSpPr/>
                  <p:nvPr/>
                </p:nvSpPr>
                <p:spPr>
                  <a:xfrm>
                    <a:off x="2737440" y="5170680"/>
                    <a:ext cx="1526760" cy="315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6" name="Group 37"/>
                  <p:cNvGrpSpPr/>
                  <p:nvPr/>
                </p:nvGrpSpPr>
                <p:grpSpPr>
                  <a:xfrm>
                    <a:off x="1572840" y="4919760"/>
                    <a:ext cx="6244200" cy="229320"/>
                    <a:chOff x="1572840" y="4919760"/>
                    <a:chExt cx="6244200" cy="229320"/>
                  </a:xfrm>
                </p:grpSpPr>
                <p:sp>
                  <p:nvSpPr>
                    <p:cNvPr id="187" name="Line 38"/>
                    <p:cNvSpPr/>
                    <p:nvPr/>
                  </p:nvSpPr>
                  <p:spPr>
                    <a:xfrm>
                      <a:off x="1822320" y="5148360"/>
                      <a:ext cx="5994720" cy="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Line 39"/>
                    <p:cNvSpPr/>
                    <p:nvPr/>
                  </p:nvSpPr>
                  <p:spPr>
                    <a:xfrm>
                      <a:off x="2769120" y="5149080"/>
                      <a:ext cx="13996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Line 40"/>
                    <p:cNvSpPr/>
                    <p:nvPr/>
                  </p:nvSpPr>
                  <p:spPr>
                    <a:xfrm>
                      <a:off x="4194360" y="5149080"/>
                      <a:ext cx="31557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Line 41"/>
                    <p:cNvSpPr/>
                    <p:nvPr/>
                  </p:nvSpPr>
                  <p:spPr>
                    <a:xfrm>
                      <a:off x="2581560" y="4919760"/>
                      <a:ext cx="9414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Line 42"/>
                    <p:cNvSpPr/>
                    <p:nvPr/>
                  </p:nvSpPr>
                  <p:spPr>
                    <a:xfrm flipH="1">
                      <a:off x="1572840" y="5141880"/>
                      <a:ext cx="241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2" name="Group 43"/>
                <p:cNvGrpSpPr/>
                <p:nvPr/>
              </p:nvGrpSpPr>
              <p:grpSpPr>
                <a:xfrm>
                  <a:off x="1499760" y="5499720"/>
                  <a:ext cx="6177240" cy="509760"/>
                  <a:chOff x="1499760" y="5499720"/>
                  <a:chExt cx="6177240" cy="509760"/>
                </a:xfrm>
              </p:grpSpPr>
              <p:sp>
                <p:nvSpPr>
                  <p:cNvPr id="193" name="Freeform 44"/>
                  <p:cNvSpPr/>
                  <p:nvPr/>
                </p:nvSpPr>
                <p:spPr>
                  <a:xfrm flipV="1">
                    <a:off x="1682280" y="5499360"/>
                    <a:ext cx="1871640" cy="37764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Rectangle 45"/>
                  <p:cNvSpPr/>
                  <p:nvPr/>
                </p:nvSpPr>
                <p:spPr>
                  <a:xfrm>
                    <a:off x="1592280" y="5701320"/>
                    <a:ext cx="1526760" cy="308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46"/>
                  <p:cNvSpPr/>
                  <p:nvPr/>
                </p:nvSpPr>
                <p:spPr>
                  <a:xfrm>
                    <a:off x="1682280" y="5686200"/>
                    <a:ext cx="5994720" cy="0"/>
                  </a:xfrm>
                  <a:prstGeom prst="line">
                    <a:avLst/>
                  </a:prstGeom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47"/>
                  <p:cNvSpPr/>
                  <p:nvPr/>
                </p:nvSpPr>
                <p:spPr>
                  <a:xfrm>
                    <a:off x="5330160" y="5686920"/>
                    <a:ext cx="1972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48"/>
                  <p:cNvSpPr/>
                  <p:nvPr/>
                </p:nvSpPr>
                <p:spPr>
                  <a:xfrm flipH="1">
                    <a:off x="1881360" y="5514840"/>
                    <a:ext cx="941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Line 49"/>
                  <p:cNvSpPr/>
                  <p:nvPr/>
                </p:nvSpPr>
                <p:spPr>
                  <a:xfrm flipH="1">
                    <a:off x="1499760" y="5686920"/>
                    <a:ext cx="1145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50"/>
                  <p:cNvSpPr/>
                  <p:nvPr/>
                </p:nvSpPr>
                <p:spPr>
                  <a:xfrm>
                    <a:off x="3548880" y="5686920"/>
                    <a:ext cx="508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51"/>
                  <p:cNvSpPr/>
                  <p:nvPr/>
                </p:nvSpPr>
                <p:spPr>
                  <a:xfrm>
                    <a:off x="4354560" y="5500080"/>
                    <a:ext cx="1871280" cy="377640"/>
                  </a:xfrm>
                  <a:prstGeom prst="pie">
                    <a:avLst/>
                  </a:pr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Rectangle 52"/>
                  <p:cNvSpPr/>
                  <p:nvPr/>
                </p:nvSpPr>
                <p:spPr>
                  <a:xfrm>
                    <a:off x="5126400" y="5701320"/>
                    <a:ext cx="1259640" cy="272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53"/>
                  <p:cNvSpPr/>
                  <p:nvPr/>
                </p:nvSpPr>
                <p:spPr>
                  <a:xfrm flipV="1">
                    <a:off x="4044960" y="5684760"/>
                    <a:ext cx="330840" cy="6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54"/>
                  <p:cNvSpPr/>
                  <p:nvPr/>
                </p:nvSpPr>
                <p:spPr>
                  <a:xfrm>
                    <a:off x="5164560" y="5550840"/>
                    <a:ext cx="76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4" name="Text Box 55"/>
              <p:cNvSpPr/>
              <p:nvPr/>
            </p:nvSpPr>
            <p:spPr>
              <a:xfrm>
                <a:off x="2899800" y="4583160"/>
                <a:ext cx="474624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600" spc="-1" strike="noStrike">
                    <a:solidFill>
                      <a:srgbClr val="000000"/>
                    </a:solidFill>
                    <a:latin typeface="Times New Roman"/>
                  </a:rPr>
                  <a:t>Heavy to Light Str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5"/>
          <p:cNvSpPr/>
          <p:nvPr/>
        </p:nvSpPr>
        <p:spPr>
          <a:xfrm>
            <a:off x="590400" y="704880"/>
            <a:ext cx="75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do we see the different colours in this frog’s sk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2813040" y="1911240"/>
            <a:ext cx="1143000" cy="44784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8"/>
          <p:cNvSpPr/>
          <p:nvPr/>
        </p:nvSpPr>
        <p:spPr>
          <a:xfrm flipH="1">
            <a:off x="4571640" y="1733400"/>
            <a:ext cx="1949400" cy="7776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eeing different colo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6310440" y="1271520"/>
            <a:ext cx="2582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is skin absorbs all colou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 colours are reflected and so it appears bl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574560" y="3343320"/>
            <a:ext cx="71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do we see the different colours in this flow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3"/>
          <p:cNvSpPr/>
          <p:nvPr/>
        </p:nvSpPr>
        <p:spPr>
          <a:xfrm rot="20218200">
            <a:off x="2498400" y="5086080"/>
            <a:ext cx="2073240" cy="501480"/>
          </a:xfrm>
          <a:prstGeom prst="rightArrow">
            <a:avLst>
              <a:gd name="adj1" fmla="val 21519"/>
              <a:gd name="adj2" fmla="val 5698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217440" y="3800520"/>
            <a:ext cx="264960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is part absorbs all colours except red and gre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t reflects red and green light, and so appears yel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5"/>
          <p:cNvSpPr/>
          <p:nvPr/>
        </p:nvSpPr>
        <p:spPr>
          <a:xfrm rot="12624000">
            <a:off x="4838040" y="4909680"/>
            <a:ext cx="2073240" cy="501840"/>
          </a:xfrm>
          <a:prstGeom prst="rightArrow">
            <a:avLst>
              <a:gd name="adj1" fmla="val 21519"/>
              <a:gd name="adj2" fmla="val 569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6327720" y="4049640"/>
            <a:ext cx="2565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is part absorbs no colou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t reflects all the colours and so appears wh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41120" y="1511280"/>
            <a:ext cx="27003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is skin absorbs all colours except red and so is seen as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7" descr=""/>
          <p:cNvPicPr/>
          <p:nvPr/>
        </p:nvPicPr>
        <p:blipFill>
          <a:blip r:embed="rId1"/>
          <a:stretch/>
        </p:blipFill>
        <p:spPr>
          <a:xfrm>
            <a:off x="2951280" y="1249200"/>
            <a:ext cx="3236760" cy="1981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" descr=""/>
          <p:cNvPicPr/>
          <p:nvPr/>
        </p:nvPicPr>
        <p:blipFill>
          <a:blip r:embed="rId2"/>
          <a:stretch/>
        </p:blipFill>
        <p:spPr>
          <a:xfrm>
            <a:off x="2936880" y="3871800"/>
            <a:ext cx="32623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w do we see different colou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ShockwaveFlash1"/>
          <p:cNvGraphicFramePr/>
          <p:nvPr/>
        </p:nvGraphicFramePr>
        <p:xfrm>
          <a:off x="250920" y="1125360"/>
          <a:ext cx="8699400" cy="530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125360"/>
                    <a:ext cx="8699400" cy="53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84280" y="932040"/>
            <a:ext cx="3376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ght travels in straight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reates sha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further from a light source the less the illu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an be reflected from shiny su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920" y="-360"/>
            <a:ext cx="7643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perties of L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1" descr="greek%20sunset"/>
          <p:cNvPicPr/>
          <p:nvPr/>
        </p:nvPicPr>
        <p:blipFill>
          <a:blip r:embed="rId1"/>
          <a:stretch/>
        </p:blipFill>
        <p:spPr>
          <a:xfrm>
            <a:off x="4119480" y="1052640"/>
            <a:ext cx="477540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42960" y="928800"/>
            <a:ext cx="3962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plane mirror reflects light regularly so it produces a clear image, which is the same size as the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image appears the same distance behind the mirror as the object is in front of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15960" y="4903920"/>
            <a:ext cx="82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n an object is reflected in a plane mirror, left appears as right and right appears as left. This type of reversal is called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cc00cc"/>
                </a:solidFill>
                <a:latin typeface="Calibri"/>
              </a:rPr>
              <a:t>lateral inversion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lateral invers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12720" y="3990960"/>
            <a:ext cx="437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ifferen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bout the image compared to the o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8K_mirror_RC"/>
          <p:cNvPicPr/>
          <p:nvPr/>
        </p:nvPicPr>
        <p:blipFill>
          <a:blip r:embed="rId1"/>
          <a:stretch/>
        </p:blipFill>
        <p:spPr>
          <a:xfrm>
            <a:off x="4781520" y="447840"/>
            <a:ext cx="399888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581040" y="70164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x a plane mirror to a piece of paper and draw aroun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2"/>
          <p:cNvGraphicFramePr/>
          <p:nvPr/>
        </p:nvGraphicFramePr>
        <p:xfrm>
          <a:off x="5273640" y="3686040"/>
          <a:ext cx="3724200" cy="27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3640" y="3686040"/>
                    <a:ext cx="37242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Line 6"/>
          <p:cNvSpPr/>
          <p:nvPr/>
        </p:nvSpPr>
        <p:spPr>
          <a:xfrm>
            <a:off x="7130880" y="1190520"/>
            <a:ext cx="1447920" cy="1067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 flipH="1">
            <a:off x="7229160" y="1733040"/>
            <a:ext cx="581760" cy="783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8"/>
          <p:cNvGrpSpPr/>
          <p:nvPr/>
        </p:nvGrpSpPr>
        <p:grpSpPr>
          <a:xfrm>
            <a:off x="5970600" y="1820520"/>
            <a:ext cx="1530360" cy="597240"/>
            <a:chOff x="5970600" y="1820520"/>
            <a:chExt cx="1530360" cy="597240"/>
          </a:xfrm>
        </p:grpSpPr>
        <p:sp>
          <p:nvSpPr>
            <p:cNvPr id="64" name="Text Box 10"/>
            <p:cNvSpPr/>
            <p:nvPr/>
          </p:nvSpPr>
          <p:spPr>
            <a:xfrm>
              <a:off x="5970600" y="2049480"/>
              <a:ext cx="1225440" cy="368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ffff"/>
                  </a:solidFill>
                  <a:latin typeface="Arial"/>
                </a:rPr>
                <a:t>angle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 flipV="1">
              <a:off x="7120080" y="1820520"/>
              <a:ext cx="380880" cy="3049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6114960" y="2376360"/>
            <a:ext cx="1402200" cy="650880"/>
            <a:chOff x="6114960" y="2376360"/>
            <a:chExt cx="1402200" cy="650880"/>
          </a:xfrm>
        </p:grpSpPr>
        <p:sp>
          <p:nvSpPr>
            <p:cNvPr id="67" name="Text Box 11"/>
            <p:cNvSpPr/>
            <p:nvPr/>
          </p:nvSpPr>
          <p:spPr>
            <a:xfrm>
              <a:off x="6114960" y="2658960"/>
              <a:ext cx="1233720" cy="368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ffff"/>
                  </a:solidFill>
                  <a:latin typeface="Arial"/>
                </a:rPr>
                <a:t>angle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V="1">
              <a:off x="7256160" y="2376360"/>
              <a:ext cx="261000" cy="4125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14"/>
          <p:cNvSpPr/>
          <p:nvPr/>
        </p:nvSpPr>
        <p:spPr>
          <a:xfrm>
            <a:off x="587520" y="1614600"/>
            <a:ext cx="47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w a normal (at 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through the centre of the mirror out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81040" y="25210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a ray box to shine an incident ray at the mirror – plot the incident and reflected r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609480" y="3794040"/>
            <a:ext cx="47246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 the angles of  incidence [i] and reflection [r] and record the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eat for another four angles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inci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o the results sh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flection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24"/>
          <p:cNvGrpSpPr/>
          <p:nvPr/>
        </p:nvGrpSpPr>
        <p:grpSpPr>
          <a:xfrm>
            <a:off x="6856560" y="1651320"/>
            <a:ext cx="964800" cy="329400"/>
            <a:chOff x="6856560" y="1651320"/>
            <a:chExt cx="964800" cy="329400"/>
          </a:xfrm>
        </p:grpSpPr>
        <p:sp>
          <p:nvSpPr>
            <p:cNvPr id="74" name="Line 8"/>
            <p:cNvSpPr/>
            <p:nvPr/>
          </p:nvSpPr>
          <p:spPr>
            <a:xfrm flipH="1">
              <a:off x="6856560" y="1735920"/>
              <a:ext cx="964800" cy="120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20"/>
            <p:cNvSpPr/>
            <p:nvPr/>
          </p:nvSpPr>
          <p:spPr>
            <a:xfrm rot="4920000">
              <a:off x="6995520" y="1649160"/>
              <a:ext cx="285840" cy="333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5"/>
          <p:cNvGrpSpPr/>
          <p:nvPr/>
        </p:nvGrpSpPr>
        <p:grpSpPr>
          <a:xfrm>
            <a:off x="7545240" y="1729080"/>
            <a:ext cx="324360" cy="1015560"/>
            <a:chOff x="7545240" y="1729080"/>
            <a:chExt cx="324360" cy="1015560"/>
          </a:xfrm>
        </p:grpSpPr>
        <p:sp>
          <p:nvSpPr>
            <p:cNvPr id="77" name="Line 9"/>
            <p:cNvSpPr/>
            <p:nvPr/>
          </p:nvSpPr>
          <p:spPr>
            <a:xfrm flipH="1">
              <a:off x="7673760" y="1729080"/>
              <a:ext cx="147240" cy="1015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21"/>
            <p:cNvSpPr/>
            <p:nvPr/>
          </p:nvSpPr>
          <p:spPr>
            <a:xfrm rot="11220000">
              <a:off x="7564320" y="2309760"/>
              <a:ext cx="285840" cy="333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Picture 26" descr=""/>
          <p:cNvPicPr/>
          <p:nvPr/>
        </p:nvPicPr>
        <p:blipFill>
          <a:blip r:embed="rId3"/>
          <a:stretch/>
        </p:blipFill>
        <p:spPr>
          <a:xfrm>
            <a:off x="5477040" y="878040"/>
            <a:ext cx="32684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gular Reflection ray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flash icon"/>
          <p:cNvPicPr/>
          <p:nvPr/>
        </p:nvPicPr>
        <p:blipFill>
          <a:blip r:embed="rId1"/>
          <a:stretch/>
        </p:blipFill>
        <p:spPr>
          <a:xfrm>
            <a:off x="8358120" y="214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ShockwaveFlash1"/>
          <p:cNvGraphicFramePr/>
          <p:nvPr/>
        </p:nvGraphicFramePr>
        <p:xfrm>
          <a:off x="444600" y="119700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119700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Irregular 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Regular reflection gives an image in a mirror because the surface of the mirror is smooth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Non-mirrored surfaces have microscopic bumps so scatter the light in different directions.   No image can be seen.  This is known as </a:t>
            </a:r>
            <a:r>
              <a:rPr b="1" lang="en-NZ" sz="3200" spc="-1" strike="noStrike">
                <a:solidFill>
                  <a:srgbClr val="ff0000"/>
                </a:solidFill>
                <a:latin typeface="Calibri"/>
              </a:rPr>
              <a:t>irregular reflection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D15E-18DB-41C1-8980-4D9843FC6C9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Plane Mirr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o form images, light rays have to meet or 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alibri"/>
              </a:rPr>
              <a:t>focus.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image is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alibri"/>
              </a:rPr>
              <a:t>laterally inverted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by a plane mirror (ie. You wave left hand, image waves right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image is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alibri"/>
              </a:rPr>
              <a:t>upright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and is th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alibri"/>
              </a:rPr>
              <a:t>same size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image is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alibri"/>
              </a:rPr>
              <a:t>virtual.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It is formed behind the mirror, in a place where no light actually went. (a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alibri"/>
              </a:rPr>
              <a:t>real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image is formed when light rays meet at a poi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Other mirror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Dimished – sma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Enlarged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alibri"/>
              </a:rPr>
              <a:t>More work with the raybox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85880" y="85716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Record what the light waves do when they hit a convex barrier and a concave barr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33C5-BA1B-4C3D-9633-04D8FE360C4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Block Arc 4"/>
          <p:cNvSpPr/>
          <p:nvPr/>
        </p:nvSpPr>
        <p:spPr>
          <a:xfrm rot="5400000">
            <a:off x="1677960" y="3321720"/>
            <a:ext cx="2143440" cy="1500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Block Arc 5"/>
          <p:cNvSpPr/>
          <p:nvPr/>
        </p:nvSpPr>
        <p:spPr>
          <a:xfrm rot="16200000">
            <a:off x="5250240" y="3321720"/>
            <a:ext cx="2143440" cy="1500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7"/>
          <p:cNvCxnSpPr/>
          <p:nvPr/>
        </p:nvCxnSpPr>
        <p:spPr>
          <a:xfrm>
            <a:off x="1357200" y="3929040"/>
            <a:ext cx="12866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9"/>
          <p:cNvCxnSpPr/>
          <p:nvPr/>
        </p:nvCxnSpPr>
        <p:spPr>
          <a:xfrm>
            <a:off x="4142880" y="3929040"/>
            <a:ext cx="1143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TextBox 10"/>
          <p:cNvSpPr/>
          <p:nvPr/>
        </p:nvSpPr>
        <p:spPr>
          <a:xfrm>
            <a:off x="1785960" y="557208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oncave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Conv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8:14:50Z</dcterms:created>
  <dc:creator>Ministry of Education</dc:creator>
  <dc:description/>
  <dc:language>en-US</dc:language>
  <cp:lastModifiedBy>Ministry of Education</cp:lastModifiedBy>
  <dcterms:modified xsi:type="dcterms:W3CDTF">2011-03-16T07:33:53Z</dcterms:modified>
  <cp:revision>10</cp:revision>
  <dc:subject/>
  <dc:title>Reflection of Light</dc:title>
</cp:coreProperties>
</file>